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563-EBCB-47C8-B7E1-09A12D00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DC7-EC8E-40AE-BFA2-A0DBFF5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B09-ADE5-4ADD-B462-B42E2DC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21F-F30C-4239-8D94-AB449EB0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E06-36DB-4350-8FED-9CC06F9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4FB-21C3-4465-950D-949C56E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F1B-E191-4891-9802-B2F38F8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527-F111-4AA6-85E5-08C9F4B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F19-1BEF-481F-90DE-AA3413DA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183-AA1F-4E83-A6E8-FF4F31F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471-5B28-4BEE-8528-DB2BB5F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F15-A465-4A7F-9198-3CA2C6C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A9CD-4768-4CA6-89A7-108DE7DD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nologia Nacional para o Monitoramento Hidrológic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sília, __ de setembro d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4653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ção: Câmara Técnica de Ciência e Tecnologia - CN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2941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oio: ANA, SRH, MCT/CT-Hidro, 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7120" y="2349360"/>
            <a:ext cx="8048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o estado-da-arte em desenvolvimento de tecnologias nacionais para o monitoramento hidrológico (aspectos quantitativos e qualitativo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cutir a universalização destas tecnologias para fins de eficiência do processo de gestão de recursos hídricos;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cutir e propor orientações para uma política de nacionalização tecnológica para o monitoramento hidrológico, a partir do estímulo ao desenvolvimento científico e a inversão do gasto público priorizando tecnologias nacio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idados (listagem prelimin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7120" y="1916280"/>
            <a:ext cx="80485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PR/LACTE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NIF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RJ/COP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RGS/IP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J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/P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PT, IP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s instituições de pesquisa e desenvolvimento em tecnologias de monitoramento hidr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ção preli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765000"/>
            <a:ext cx="8048520" cy="61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00 – Abertu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15 – Apresentação 1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09:45 – Apresentação 2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0:15 – Apresentação 3: desenvolvimento C&amp;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0:45 – 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1:00 – Apresentação 4: demandas de monitoramento hidrológico no Brasil e potencialidades p/ a nacional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1:30 – Apresentação 5: estado da arte em tecnologias de monitoramento e gap tecn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2:00 – Sessão de interação: dúvidas e questionament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2:30 – Almo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4:00 - Mesa redonda: MDIC, MCT, BNDES, FINEP. Título: “Potencialidades e obstáculos para a nacionalização tecnológica no monitoramento hidrológico”. Discussão aberta, com relatoria. Pergunta-chave: quais seriam os elementos de políticas públicas que poderiam alavancar o processo de produção nacional para fins de monitoramento hidrológico (agentes, fundos, instrumentos, etc.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6:00 - Encer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1:48:53Z</dcterms:created>
  <dc:creator>eco</dc:creator>
  <dc:description/>
  <dc:language>en-US</dc:language>
  <cp:lastModifiedBy>eco</cp:lastModifiedBy>
  <dcterms:modified xsi:type="dcterms:W3CDTF">2007-05-17T02:33:44Z</dcterms:modified>
  <cp:revision>7</cp:revision>
  <dc:subject/>
  <dc:title>Workshop Tecnologia Nacional para o Monitoramento Hidrológico  Brasília, </dc:title>
</cp:coreProperties>
</file>